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uarab@sangog.ne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unny@ep.ne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unny@ep.ne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unny@ep.ne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NS Regist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T z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e have a top level domain called NET for the purpose of this worksho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ght now, the NET zone is maintained manual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nd mail to Arth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ets start by thinking about what the NET zone might look lik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T z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f5e1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TTL 8600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$ORIGIN net.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@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SOA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.root-server.net.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rth.sanog.net. (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2004011401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serial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1800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refresh (30 mins)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retry (15 mins)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604800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expire (7 days)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86400 )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negataive cache TTL (1 day)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.root-server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B.root-server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.root-server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192.168.100.1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B.root-server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192.168.200.1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SANGOG organisation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; contact Guarab, +91 98345678,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uarab@sangog.net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sanog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ns1.sanog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bangalore.sanog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bangalore.sanog</a:t>
            </a: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9f5e1"/>
                </a:solidFill>
                <a:latin typeface="Arial"/>
              </a:rPr>
              <a:t>192.168.300.1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 a domai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 NS record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 glue records (A , AAAA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ore meta-dat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where-is-Sunny Enterprises Lt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contact Sunny, +91 0402567896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nny@ep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here-i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on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ar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49920" y="4178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; 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actions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odify nameservers, metadat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nge NS record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nge glue records (A, AAAA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nge meta-dat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where-is-Sunny Enterprises Lt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contact Sunny, +91 0402567896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nny@ep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here-i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hip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oat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move a domai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move NS record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move glue records (A, AAAA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move meta-dat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where-is-Sunny Enterprises Lt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contact Sunny, +91 0402567896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nny@ep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 deleted 2003-02-02 by hostmast@sanog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where-i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hip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oat.ep.net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gistry 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dious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ant” – the organisation or person responsible for a domai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ar” – the middlemen who interacts with registries on behalf of registra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y” - the organisations which maintains the register and publishes the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er” – the data that is maintained by the regist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Registry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4400640"/>
            <a:ext cx="7467480" cy="2076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257120"/>
            <a:ext cx="7467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gistry deals directly with Registra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Registra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ngle Access Registry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onopoly Registry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Registry with Resell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00240" y="2933640"/>
            <a:ext cx="7467480" cy="3524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4674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gistrants can deal directly with the Registry, or they can deal with Resell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Trans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ies only interact with registr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 any particular domain, a Registrant only interacts with one Registra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at Registrar is said to “sponsor” the domai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y “transfer” transac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at is a DNS registry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NS registr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ata 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ata Ou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y Structur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gistra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gistra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action with oth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ise vs De-central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me shared-registry systems distribute much of the registry metadata to registrars, rather that maintaining it centrall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-centralise” registry (COM, NET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shared-registry systems keep all the metadata centr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entralise” registry (INFO, IN, LK, etc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action with Oth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with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47720" y="1566720"/>
            <a:ext cx="643896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echanism for retrieving metadata from regist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FC 954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data format specifi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ransport protocol is poorly specifi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very registry whois output looks differ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is.crsnic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09600" y="1452600"/>
            <a:ext cx="7220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is.srs.net.n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3440" y="1376280"/>
            <a:ext cx="70675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Who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Rs are registries too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 addresses, ASNs, domai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oute policy (RIPE-181, RPSL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R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.apnic.ne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.arin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.ripe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.lacnic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.ra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DNS Regist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point of a registry is to publish a zone which delegates child zones to other name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y system provide a systematic and automated method of maintaining a zone with a limited and well-defined structur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you do not delegate zones to others, possibly don’t care how registries are ru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Regist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ceive and validate external dat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tore dat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ublish data (DNS, whois, etc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omain nam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servers (FQDN &amp; IP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eta-dat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echnical coordin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illing (payments &amp; renewals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O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 zone fi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list of delegations (NS records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legation glue (A, AAAA records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ublished via a master nameserver, replicated to slav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oi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data (statistics, logs, etc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Fl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4280" y="1581120"/>
            <a:ext cx="7305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 and delete record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odify record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, delete nameservers (change delegation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ange meta-dat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t status attribut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ual Regist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me registries don’t have to process many transac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GOVT.NZ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Q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 registry might just consist of a zone file edited by ha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4T07:44:16Z</dcterms:modified>
  <cp:revision>342</cp:revision>
  <dc:subject/>
  <dc:title>Welcome! APNIC Members Training Course </dc:title>
</cp:coreProperties>
</file>